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B789-3602-4451-AE2D-F6C3E1214D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30E2-5815-40E3-AE80-CBAD2478AF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A2F-1A67-487E-84AE-DF83E662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B59-82A4-45AA-B24F-B489AB23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8AD-A3F5-4703-9F25-8E0FDF55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BE5-D6B4-4B76-A119-76B4E778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820-7D40-4106-A884-B2229CC6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2E2-6F90-44A9-8224-CC164D10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168-A770-4035-A817-F17CBB14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0FD-1C9C-41E2-B453-67153A4B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CD5-3DCD-4550-9753-90656FC0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C3A-047B-4FDC-97F4-28D6AD23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CE4-7C23-4B11-B95B-D6704BC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3E5-193E-4240-945E-A5C9FCE6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F522-F016-44FC-81FB-3CD8622A4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alibri"/>
              </a:rPr>
              <a:t>Взаимодействие электромагнитных волн с вещество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фект Кер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ость между обыкновенным и необыкновенным лучами пропорциональна квадрату напряжённости электрического по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разность фаз определяется выражени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щина проходимого слоя 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остоянная Кер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3049560" y="3219480"/>
            <a:ext cx="2879640" cy="638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857680" y="4429080"/>
            <a:ext cx="3214440" cy="642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571680" y="5429160"/>
            <a:ext cx="10713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тоянные Керра для некоторых вещест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14200" y="2500200"/>
            <a:ext cx="8720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Коттона-Мутт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молекулы среды анизотропны и обладают постоянными магнитными моментами, то они могут преимущественно ориентироваться постоянным магнитным полем. В достаточно сильных магнитных полях возникает анизотропия и связанное с ней двойное лучепрелом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аналогом эффекта Кер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ффект Поккельса – это изменение двойного преломления вещества из-за смещения собственной частоты во внешнем электрическом п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ращение плоскости поля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линейно поляризованный свет проходит через плоско-параллельный слой вещества, то в некоторых случаях плоскость поляризации света оказывается повёрнутой относительно своего исходного по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ественная оптическая акти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гнитная оптическая активность  (эффект Фараде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естественно-активных веществ справедлив закон Би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ол поворота плоскости поляризации пропорционален толщине оптически активного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астворах угол поворота пропорционален пути луча в растворе и концентрации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стоянная вра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дельная постоянная вращ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3286080" y="3071880"/>
            <a:ext cx="1689120" cy="785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071880" y="4786200"/>
            <a:ext cx="2166840" cy="714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3"/>
          <a:stretch/>
        </p:blipFill>
        <p:spPr>
          <a:xfrm>
            <a:off x="357120" y="5411880"/>
            <a:ext cx="357120" cy="579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"/>
          <p:cNvPicPr/>
          <p:nvPr/>
        </p:nvPicPr>
        <p:blipFill>
          <a:blip r:embed="rId4"/>
          <a:stretch/>
        </p:blipFill>
        <p:spPr>
          <a:xfrm>
            <a:off x="571680" y="5857920"/>
            <a:ext cx="1000080" cy="743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Эффект Фарадея – это вращение плоскости поляризации естественно-неактивным веществом, помещённым в сильное магнитном поле, когда свет распространяется вдоль магнитного по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Верде установил, ч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Угол поворота плоскости поляризации пропорционален длине пути света в веществе и магнитной индукции в веществ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где 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R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 – постоянная Верде или магнитная вращательная способность, зависящая от рода вещества, его физического состояния и длины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071880" y="3214800"/>
            <a:ext cx="22716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рмула Беккереля для постоянной Вере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714760" y="2714760"/>
            <a:ext cx="3822480" cy="128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тоянные Верде для некоторых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214200" y="2071800"/>
            <a:ext cx="8805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Дисперсия с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Поглощение с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Рассеяние с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214280" y="50004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Вопросы взаимодействия света с вещество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а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стинка кварца толщино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=1 мм, вырезанная перпендикулярно оптической оси кристалла, поворачивает плоскость поляризации монохроматического света определённой длины волны на угол а=20. Определи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должна быть толщ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варцевой пластинки, помещённой между двумя николями, чтобы свет был полностью погаш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длины трубку с раствором сахара концентрацией 0,4 кг-л надо поместить между николями для получения того же эффек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ельное вращение раствора сахара 0,66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отин (чистая жидкость), содержащийся в стеклянной трубке длино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 8 см, поворачивает плоскость поляризации жёлтого света натрия на угол а=137. Плотность никотина равна 1010 кг/м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ь удельное вращение никот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коэффициент затухания для монохроматического света с длиной волны 550 нм, зная, что при прохождении через раствор толщиной 30 мм свет ослабляется в 14 раза. Какой толщины необходимо взять раствор, чтобы при данном коэффициенте затухания интенсивность красного света уменьшилась в 4 раз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 от гелий-неонового лазера с длиной волны 670 нм и интенсивность 20 Вт/м2 пропустили через  раствор бриллиантовой зелени. Определить интенсивность луча при выходе из раствора, если известно, что данный раствор ослабляет интенсивность  фиолетового луча в 20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ить поляризуемость двух молей воды, если её показатель преломления равен 1,33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обственную часто ту электронов в атоме воды при облучении её светом с длиной волны 550 н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акой угол повернёт плоскость поляризации луча 656 нм водород, если его толщина составляет 2 м, постоянная Верде для водорода 0,4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1 см в поле 10 Т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бку с раствором сахара какой длины необходимо взять для получения аналогичного поворота плоскости поляризации при концентрации раствора 0,05 кг/м3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00040" y="150012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Вавилова-Черен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Покке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Вращение плоскости поляриз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Двойное лучепреломление (эффекты Керра и Коттнона-Муттон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643040" y="57168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Эффекты и явл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Дисперсия – это зависимость показания преломления электромагнитных волн от длины волны (частот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глощение – это затрата части энергии электромагнитной волны на возбуждение колебаний электронов при прохождении через 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Рассеяние – это возникающая на мелких неоднородностях среды дифракционная картина, характеризующаяся довольно равномерным распределением интенсивности по всем направлени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сперсия с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авнение Максвел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а Зельмейера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      - показатель преломления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число атомов в единице объёма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частота внешнего электрического поля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бственная частота электрона в ато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654360" y="2071800"/>
            <a:ext cx="1631880" cy="78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690640" y="3357720"/>
            <a:ext cx="3667320" cy="1357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252440" y="4586400"/>
            <a:ext cx="247680" cy="557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5214960" y="5000760"/>
            <a:ext cx="357120" cy="642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5"/>
          <a:stretch/>
        </p:blipFill>
        <p:spPr>
          <a:xfrm>
            <a:off x="4214880" y="5572080"/>
            <a:ext cx="428400" cy="482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0040" y="5716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а Мосотти_Клаузиуса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а Лорнеца-Лоренц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оляризуемость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3565440" y="1357200"/>
            <a:ext cx="2006640" cy="785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3071880" y="3286080"/>
            <a:ext cx="3143160" cy="1000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1785960" y="4643280"/>
            <a:ext cx="3571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глощение с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плитуда монохроматической волны при распространении в веществе убывает по закон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нсивность убывает согласно закону Буге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   - толщина слоя 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эффициент затухания (поглощ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071880" y="3786120"/>
            <a:ext cx="2711520" cy="857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1000080" y="4357800"/>
            <a:ext cx="214200" cy="857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357120" y="5429160"/>
            <a:ext cx="13860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af01af"/>
                </a:solidFill>
                <a:latin typeface="Calibri"/>
              </a:rPr>
              <a:t>Эффект Вавилова-Черенкова – это особый вид излучения света электрически заряженной частицей, возникающее при её движении в среде с постоянной скоростью, превышающей фазовую скорость света в это этой сре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d60093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d60093"/>
                </a:solidFill>
                <a:latin typeface="Calibri"/>
              </a:rPr>
              <a:t>Электрооптический эффект Керра состоит в том, что многие изотропные тела при введении в постоянное электрическое поле становятся оптически изотропны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5:11:38Z</dcterms:created>
  <dc:creator>Михаил</dc:creator>
  <dc:description/>
  <dc:language>en-US</dc:language>
  <cp:lastModifiedBy>Михаил</cp:lastModifiedBy>
  <dcterms:modified xsi:type="dcterms:W3CDTF">2010-10-17T20:03:54Z</dcterms:modified>
  <cp:revision>31</cp:revision>
  <dc:subject/>
  <dc:title>Взаимодействие света с веществом</dc:title>
</cp:coreProperties>
</file>